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3F9-FACF-44FA-B489-A36D79D1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BA3-2F27-4984-89E0-0D04E455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F224C-4327-4AD1-A5F1-7D94600F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2DAC9-9D03-4FB2-A4BB-E13F433F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25E7B-7567-4B59-8295-E15CB734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C60CE-6FDD-4A26-86C1-C0A6DA41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68671-2740-4AFB-98CF-A963E093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6D5C7-7C88-4D2E-A8E6-8A6FD1CB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78B04-245C-4450-95E3-39FC3916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3F3FE-A255-475F-BAD4-D8AC1699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F0FE9-5A24-4880-BB63-A282618B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BF80B-9F84-42DB-8971-B149849B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2E1-63CA-495E-8C3D-990F9E23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0A972-036C-49CA-B618-89A03305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A8209-2CDD-481A-90AE-8A98EEB3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38FB1-D9D8-4BA8-A769-B9853DA2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A885B-21CD-4677-90FE-4C7A5951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33D89-3623-4EDA-B42D-2B02AF4A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CE9F1-791A-43EF-B8B2-BA967672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C6F0C-B747-49E9-833D-31E6ECF6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BDC52-A328-44DF-8ED2-BAB33035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4D6BF-574A-4A53-80D1-BC86381A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47E84-B6DA-4613-AE2B-0B87BB83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4C8-9897-42B5-AD4F-81C1F40A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CADAE-A69C-42B7-B4DC-D468E9F1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B211E-27A4-42F9-A599-ADE856AB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AB009-2AE6-431A-9BD9-D3FB8786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D26B6-922D-4B87-AFAC-2103D86F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F46B9-E089-4CEF-BD47-68832E24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BB46B-E5A4-4F37-B6FF-E7A5DF0C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B02E5-33D3-4FD8-A6EC-D00E27BC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88DF4-D594-474A-A338-7A389FD4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329C9-AC09-41E8-801D-9A8E9979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2CBA5-4BE6-4317-A1CE-9BBC0336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6403-D44E-450F-94DB-B60308D5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738A0-5369-4BE6-B881-5BB4AA2A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0186B-4AC9-4564-8513-940CB4BC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BA3A2-B8CB-492F-BB3B-7F88A881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647CD-F0A4-4782-A444-A7818C7E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7EC17-F155-4BE5-9BE1-A059C99B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0D3BE-F12F-4B96-8124-6686632A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EF789-22A4-4230-86BE-2D6B1909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9912D-214B-4BC4-81DD-BE0AE68E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D0796-1C76-489B-B4EB-15222AEE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691A0-95AC-47B2-ABF2-A82EF63F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CF7A-EC37-44DD-A7DA-BB4AB00A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E9914-FAB9-4722-9E07-B50C07CE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DBDCC-3A81-4173-B35C-F9ACFE8C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BCFFA-6717-4161-9E27-59959EB1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E56A5-EF2B-4AEA-ADB3-02485DB1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49BD0-8DA6-4216-B793-52E31772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6D130-07A8-4008-A8F3-B4837E05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8F02C-BA91-43F5-9AD6-DD2AA4E6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ABF52C-2974-4C99-8C90-40A893B6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D2FEB-D4C6-4F55-B914-E3AEA17D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C170E1-48FF-4439-A7B7-5C232B0A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553B-E469-4FE5-820B-EF9FC4CF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7D0FC0-01F9-44D0-BF05-BA8F9F4C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66E76-326E-43BB-8FD8-158095B8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8B790-312D-4DA4-8DF0-5E97913C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FACDD-803F-4CD4-BB01-FCBBAB5B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CAECD-CDBB-437A-B161-4845324D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F5782-A010-4381-8F2A-7762790B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C20EA-32FE-41EB-BA65-21059621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CE67A-FFDD-4D2D-AA99-AF5A7000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563D15-22B6-440C-89B0-0FFF8219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66E81A-DEF1-4B32-810B-09FE8D6B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FCA2-C73D-4651-939A-9B449D44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9C1B46-D1AB-4DE7-AB13-F6CB190E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89740C-3212-4327-A0AF-910065C7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CB83D7-1ECF-45EE-AF08-A05B35D9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2141FB-63E5-47BF-A9AA-AD4191AF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9CA6A1-C1E5-4097-990E-C61641AA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150F45-B33B-42DC-AA28-4D784D6B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E570D5-7675-4DB0-8170-209C453C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DEF0BB-9755-4D17-B65B-8311C07E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B7C9EE-9B85-4572-8C5B-468A2289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7ED34F-5592-4A0E-922A-506E966E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ED70-5652-4F81-96F3-2F7A6AA1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3E2A97-37BC-4B0F-82BC-068F75C4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78A792-2B93-44E9-B470-6B1EFF1D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C675B8-CE39-4D3D-B6CF-C24A5AF8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B32A94-9D84-488C-A78B-D378F2EF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B8E687-2477-45FC-8506-D0B1F2D1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CF774C-B138-429D-A7E0-0319E2A1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74D20A-29E3-469A-9C8D-C8A21DF9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5F3BB7-620F-4F47-B688-47E207CB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69E74E-E590-46FB-A41D-A7B9B9F6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D89347-0AC0-4ABF-9944-0CFAAD7A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A25F-AACF-4258-87B9-2748C9DB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B72D4A-3F9D-4A3E-A179-4487D17E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E5DECB-52CD-4384-844D-8FB7091C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6BBE69-F9C7-40BC-8941-C76F2B15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EB4F1B-6FB2-4DDA-AAEE-995C9C9D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71EA4A-7C59-40AB-8AA4-F5C96078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0CC241-2BFF-4141-8DC1-5CB4F64D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A22B37-64D4-48F4-8C3D-19C707D8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D93232-32C3-4426-BAA1-7895391E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DEC9DD-DBF4-4532-ADE5-9E0A95F1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03A398-1DCC-47D2-83BD-22B4D7FE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15CE-2530-4C1D-918F-BEDEE859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DE7BD0-1246-423B-91E1-206C8F78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EE3A7F-3053-43A6-AF26-6D2AD987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1066A5-4391-4A46-A46D-A4BDFDC1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6DEABA-3D76-48ED-ACE5-5123D99D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E1AC41-F7BF-418D-8E06-84DF0D3C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9BB0CD-DE18-42B2-A9CF-73F43E8A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5D1DA2-EED5-4710-B7A0-00481601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C037C8-83BF-4A8B-8603-F3013803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417EEB-9607-4B02-8BCF-8BAEFEFA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DE3778-68A1-4291-8B5A-D8ADBA0A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9A4-4A83-469B-AFF2-2A1D6C34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4663-D24C-443F-A2FA-41D6DB25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12A1D2-4EC2-421F-835F-8E0CFBF8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1667A5-482D-415C-98DA-0610C0DD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4C5A06-1783-4CC8-9620-4148587C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E46383-6C13-4FA3-BA89-450FC514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3528FF-96CA-4DC8-95BD-49C19C36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C615C9-28F3-41E4-8BEE-CE685A14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4310E4-B41C-455C-8C62-DAE9A947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E2A2E1-D573-4A3E-A29A-60A2DE09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79DD05-93D5-45BA-8D28-717E77CE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379D4E-28B7-4091-8D7A-15949298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4B01-E89F-4E72-9E53-A01A9F56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7C9562-42FF-497E-9CCF-868778A4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D0BD8A-6D06-498D-9274-F8A90816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06E7D0-5C8A-452E-AC7E-D74FB719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69855E-13E0-4B4D-B425-0DA86052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6E517C-5050-438A-9EE4-CDD59FBF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C9873E-1EAE-4983-B836-5F963285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96B918-8424-4995-A86E-FEC6A84B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4F33-1306-47AC-862D-E5B6097A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03F0-2977-4357-96AD-6C7CFB4D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FBB7-99FC-413F-B512-CA592DF7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FC973-B229-4FC0-BAF7-D4D609E3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A5400-31C1-400A-9017-59BFE9FF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8535B-C8B6-4D4A-8A5A-A3FFB197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DC643-0982-4792-9AE1-464DC142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8278F-7762-4E63-B0B6-D40CB0F9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EF9B-92AB-45F5-AFAA-544C7C36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AABE7-FFEA-4D6F-B128-32DAD057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017EF-41F7-408A-A103-62CC6D3A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823B3-6336-4106-90A0-AFE63A8A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0FAD5-CDF2-4CFA-8868-9FFCD473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C73EC-EC81-494E-AA5D-9040BA4C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F6D14-82F2-456A-975B-EA0ABEAA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46546-DA0B-4025-83E1-C8E04B51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E6544-1C74-4A6D-9949-732461AD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7B76E-3DD1-45F1-A5F1-3987F49A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F7C9B-B09A-47F8-855E-D5D8C4B3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789B-0DF5-4F2D-95E0-00C23C38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76FB0-9C97-498D-AAAB-BD5D5A85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45649-B5B0-46A7-98CA-396210BD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AA79F-4746-428A-8CB8-D18CC749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D8CA4-B91D-401E-ADE4-EF2112C5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2CB9F-A1DA-472B-92D0-8A7F99CF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D0F45-786F-4588-BD05-0106FBB1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3C79C-9AEA-4D57-88D9-1C60F5D4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DD82C-4490-4CC4-A60F-1B7A5237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BDE19-BEDC-48F7-B9F7-2406AE57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0DE62-93FC-4684-9935-FD4F91F0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50FF-AD98-4FA1-9045-91FBDE76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5E17D-5FE1-4AD9-99EB-F48F22A7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91238-8A34-4C8D-B490-91D5220D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0E67B-18DA-4EFB-8D2A-586DF5E2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4EA76-0CB4-4D06-A800-1E29BF26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A0E51-4758-4536-A1BA-3E7EE7DD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0E530-7C58-4067-89EC-1C1115A9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16B5B-48AF-4B57-B2A8-41E17C11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E2016-4B94-4F6B-A2F7-9310B4DC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0F7E1-61A9-4565-B672-B6051D0C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917ED-2EDE-488E-8C91-4F5CFA2B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083-2092-4687-BDE4-F1A04996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417F9-67D3-413B-AFF6-786890EF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5C644-B85F-4EBE-A1D7-F08D4513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B452C-2E08-4A3E-8144-6EBAF0AA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F0A9F-391C-40D8-918B-2F9CE749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C562B-6CA6-41A0-AD70-89EF191D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596C3-7CF3-4226-86A9-4DEE4AAF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C9545-1725-449D-A9AE-3A8E1962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BD7D6-5196-4891-9BE2-F2FA9674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CD3A5-2E8D-4A8A-9F1D-777C1679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65B6B-7855-4B21-8B5F-23700292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C4A-7C38-4E5C-9594-9D73DC57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346E0-2BA9-446E-98CB-52D0D427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8C526-0B33-4BED-83A0-FAD2223C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2BCA7-EE3D-4A38-891A-DEB378EB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BD020-1B58-491A-8EB3-AA6B5EB8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D3AAD-BE3A-45CF-AFC4-2C3CADDD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3E695-C9E0-46FB-A79C-E8187689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0DDED-C3D0-4221-A11D-21FA4B15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49092-A9BE-484C-969D-AB52AF31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F555D-0274-4C17-9E6E-CB866F5A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C2BCF-0042-48A7-9A9D-0AEB11EE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9B5-B170-44B6-8CDF-D03C1B72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D005B-CFE3-436F-9FA1-DCFCCE4C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C5C80-0ACD-41D3-8E00-81B364F1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332CB-D88C-4B6E-89B3-F9979313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55CF8-E046-4EFB-BC90-842D8A86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40BFB-10E6-4EA6-99F0-70767331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93B58-B316-4D74-93DB-0BE67EA7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00D4C-74BF-4DA5-A1FD-0C9E5AE7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C1328-DA46-449C-9573-6218AA25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F71FF-6D72-4F3D-A45F-180A2D27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1E702-F11B-44EC-9DA4-85BC6D95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21B-195C-48DC-BC28-A6E7F4B4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46C7A-5DC5-4E0F-834C-BD52F4A9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9FDCB-3573-4097-8F60-45E0EB02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94DF9-1404-485D-A962-C2ED72C0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FDB36-3143-4011-B343-F9640ED0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F5247-21BF-4A94-927E-616AEC51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DE8B6-B593-459A-AB5F-D4C79F60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0F37E-AA59-4D9D-A6A3-A29AA299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3DF08-7971-4B73-967A-BAFCDCE3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A9559-BCB2-4D9B-85C2-7D024F37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14120-F244-49CC-A3CE-E434E279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416B-D60F-4DCD-B6A6-832362667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B7EC-8F91-47AB-8904-445005442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A24A-4736-460F-83B1-43FE7AA76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4E8B-6F37-4E72-B5DB-27821C375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4E4B-C78A-46C8-80DB-9EBA934B7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616A-3645-4860-957E-EF9EDAFAF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2C36-719A-4B5D-AC4B-5D79ABDFD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23DE-E18D-4A20-95EA-54179F93B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2E9F-6EC4-4F70-B52D-5F5AB6B29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CF0A-5AB5-47E0-AA5F-25C4455B2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0955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A1D3-EEEE-4E79-98C0-D64BA935A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5C72-B682-4727-9A7B-370714606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B698-8E43-49DF-AA96-3AAEF5BD7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0955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46D9-CC02-4FCB-BC6D-8B0408B25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0085-C1F2-466E-A28F-C9D151C40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05F2-C6B0-4383-87B2-740B7C4B1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9140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0955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6D60-1B1B-4A24-B43A-B21D1C92D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452B-D72A-492E-BF6C-D69BC9079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8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8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8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8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8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8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8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8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4: Absolute value inequ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6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absolute value inequalities in one variable graph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absolute value inequalities in one variable algebra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Solving graphically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x| &lt;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|x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x)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x| -6&lt;x&lt;6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4676760" cy="469080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 flipV="1">
            <a:off x="5638680" y="1980720"/>
            <a:ext cx="2133720" cy="2057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3657240" y="1905120"/>
            <a:ext cx="2057400" cy="2133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505320" y="2743200"/>
            <a:ext cx="4343400" cy="0"/>
          </a:xfrm>
          <a:prstGeom prst="line">
            <a:avLst/>
          </a:prstGeom>
          <a:ln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419720" y="2057400"/>
            <a:ext cx="0" cy="4038480"/>
          </a:xfrm>
          <a:prstGeom prst="line">
            <a:avLst/>
          </a:prstGeom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934320" y="2057400"/>
            <a:ext cx="0" cy="4038480"/>
          </a:xfrm>
          <a:prstGeom prst="line">
            <a:avLst/>
          </a:prstGeom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419720" y="1676520"/>
            <a:ext cx="2514600" cy="4724280"/>
          </a:xfrm>
          <a:prstGeom prst="rect">
            <a:avLst/>
          </a:prstGeom>
          <a:solidFill>
            <a:srgbClr val="ffff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Solving graphically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x-3| &lt;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|x-3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x)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x|-2&lt;x&lt;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4676760" cy="469080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 flipV="1">
            <a:off x="6324480" y="1828800"/>
            <a:ext cx="2210040" cy="2209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 flipV="1">
            <a:off x="4191120" y="1905120"/>
            <a:ext cx="2209680" cy="2133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505320" y="2971800"/>
            <a:ext cx="4343400" cy="0"/>
          </a:xfrm>
          <a:prstGeom prst="line">
            <a:avLst/>
          </a:prstGeom>
          <a:ln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57800" y="1752480"/>
            <a:ext cx="0" cy="4343400"/>
          </a:xfrm>
          <a:prstGeom prst="line">
            <a:avLst/>
          </a:prstGeom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391520" y="1752480"/>
            <a:ext cx="0" cy="4496040"/>
          </a:xfrm>
          <a:prstGeom prst="line">
            <a:avLst/>
          </a:prstGeom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257800" y="1676520"/>
            <a:ext cx="2133720" cy="4800600"/>
          </a:xfrm>
          <a:prstGeom prst="rect">
            <a:avLst/>
          </a:prstGeom>
          <a:solidFill>
            <a:srgbClr val="ffff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Solving graphically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x| &gt;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|x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x)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x| x&lt;-4 or x&gt;4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4676760" cy="469080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 flipV="1">
            <a:off x="5638680" y="1980720"/>
            <a:ext cx="2133720" cy="2057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3657240" y="1905120"/>
            <a:ext cx="2057400" cy="2133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505320" y="3200400"/>
            <a:ext cx="4343400" cy="0"/>
          </a:xfrm>
          <a:prstGeom prst="line">
            <a:avLst/>
          </a:prstGeom>
          <a:ln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876920" y="1905120"/>
            <a:ext cx="0" cy="4343400"/>
          </a:xfrm>
          <a:prstGeom prst="line">
            <a:avLst/>
          </a:prstGeom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477120" y="1905120"/>
            <a:ext cx="0" cy="4190760"/>
          </a:xfrm>
          <a:prstGeom prst="line">
            <a:avLst/>
          </a:prstGeom>
          <a:ln w="507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352680" y="1905120"/>
            <a:ext cx="1524240" cy="4267080"/>
          </a:xfrm>
          <a:prstGeom prst="rect">
            <a:avLst/>
          </a:prstGeom>
          <a:solidFill>
            <a:srgbClr val="ffff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477120" y="1905120"/>
            <a:ext cx="1828800" cy="4190760"/>
          </a:xfrm>
          <a:prstGeom prst="rect">
            <a:avLst/>
          </a:prstGeom>
          <a:solidFill>
            <a:srgbClr val="ffff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Properties of absolute value inequalities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For any positive number p, i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x|&lt;p th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&lt;x&lt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For any positive number, i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x|&gt;p th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&lt;-p or x&gt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Solving algebraically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2-x| &gt;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x&lt;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x&gt;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&lt;-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&gt;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&gt;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&lt;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Solving algebraically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x-4|&lt;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&lt;x-4&lt;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&lt;x&lt;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14:21:29Z</dcterms:created>
  <dc:creator>nuhs</dc:creator>
  <dc:description/>
  <dc:language>en-US</dc:language>
  <cp:lastModifiedBy>nuhs</cp:lastModifiedBy>
  <dcterms:modified xsi:type="dcterms:W3CDTF">2007-11-06T20:40:27Z</dcterms:modified>
  <cp:revision>6</cp:revision>
  <dc:subject/>
  <dc:title>Algebra 2A</dc:title>
</cp:coreProperties>
</file>